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8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move the slid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40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98A1EBB-2A73-4762-B0F1-6D3A07CC09D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3ED978-C30D-4A68-90D8-FE1D69738887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3640"/>
          </a:xfrm>
          <a:prstGeom prst="rect">
            <a:avLst/>
          </a:prstGeom>
          <a:ln w="0">
            <a:noFill/>
          </a:ln>
        </p:spPr>
      </p:sp>
      <p:sp>
        <p:nvSpPr>
          <p:cNvPr id="733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CE68C36-EAF1-4C0D-9BD5-6FA7C284503A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D41896-5864-4FBC-B95B-6F9723DCAC83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D7A6FE-D4E0-4FAA-86F1-5063B8C840DE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146C101-F82B-407D-92CA-7672F4FD5FFF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346304-4A1C-4D60-B9B7-FCDA162E4E92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06440" y="5075280"/>
            <a:ext cx="6495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1D2F46-8F74-4AAF-B153-783BC54C4DAC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F1D75D-B2F4-48D4-9B63-E261DE7B9155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0DA9C4-4913-475F-871D-5B9BEC15AA7E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E1F848-20D1-4904-9C57-24E2D71AB58C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AC7E52B-7F32-4AFD-9734-BCD710BFC678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ABE3A1-512D-4AFC-969F-FB7BEE30187E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DFDE499-B922-4C28-9FC8-CDA669EC2CE5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3DE3909-A32E-417F-9C23-4F3D62795EA7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89106D7-BF7A-4F64-92F0-38D2CC8395F5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7C1269F-7644-40CC-A1A5-865E085A05F7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F52ECA9-E6D4-4C83-AD7C-238E064888D8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A7541DC-4FA6-45D1-8143-B1B22F4829F2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7FB39EC-5671-4356-8393-2E2E6F094E7E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A87B0F5-D681-4FCA-A143-F2E3472DD00E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A0E82D6-A849-4D63-ADFA-A25D5AC823F0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5F5E419-DEBF-493F-996A-F4730B4D3E5B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E68F033-9D61-4639-8514-F7A289714B7E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4B9000-B9CC-4AB8-BD18-630F234B2C28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716040" y="4875120"/>
            <a:ext cx="55166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4A5-D083-4FE4-8FAC-D41B67E0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D5D-98CD-474E-A915-6BA4619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E9D8E-9EDF-416C-8D1B-BCF3044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4167-83AD-405A-B657-EA2D4A0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0F210-C2F1-4294-A8E5-D833FEE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E3DBC-7685-410C-8C24-15F2F757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D7E8A-9FF8-40FF-BE79-556D193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EFC9C-9EB2-49B5-AC94-828B873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AE41-7ECD-41D8-99CD-D980AB1B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0D175-7B69-4B5F-8561-44C0DE7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411A6-C539-4839-80AD-D239685C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7EF2F-6C2F-4053-8D4D-3F9D70D3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77C-97A8-495E-8FE4-1AD1693F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33E2B-11C3-4851-A758-89A2FE30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D9651-F9A6-44A8-BF2A-83526E9C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522FE-DFFB-4AA5-A330-0D90F6A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576A7-827D-4A5D-B060-2AC606A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8DEB8-F7E2-4834-9CED-D5B6EFD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8BE49-D059-4FBA-8319-8D361A9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0BC8E-B954-4836-A999-ACFFB30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C1993-55E1-409D-BF43-78854BD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2AF56-A000-4B83-BDF9-73DE7BD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6B2E0-3903-4936-886E-42BEBEDC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B12-F7D0-4966-9244-89E431D6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4CDE8-1944-4B6E-8327-49B6F422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9D743-2CF4-4722-B268-D9193EDB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AFDC0-6B69-47FA-BBA4-69D79773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E9BA6-EA55-41F5-937A-600FCBFF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6020-76B2-4ABA-B4F4-B44A98CE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A293-248B-4EAA-95D4-6B7C54A1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E402-855D-4575-AB90-CEBB554C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7ECE5-39D4-4DB2-9752-0D3E20F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375F-4CBD-4857-9CF9-52272C8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5ACA-BE96-48FD-934F-2DDE6A2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8722-C751-412B-B985-EC56CB2B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9838C-CA7F-406F-8592-3533B287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666F-7031-42FD-B0CB-459FCA77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8DCF-BFE9-4C49-B337-38AB3AA2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EDFD5-695F-44A3-9949-C55C52C9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AAF47-38CF-4FB5-AE11-F3D1E35C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486BF-72B2-4DC6-8CAD-25D50545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8C9E6-A7EF-4B02-903A-6032502C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ABE68-6F2B-4B19-A670-ADD29992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FC4D4-5B24-41FF-9F02-21397BC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968D4-23E2-487E-9A48-D6E5591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411-9143-408B-B206-3BDB7DBA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5A01A-BD2E-4BED-A9D1-B8AA82E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7C7FB-8ADC-4B63-AC4A-86A75CF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542F6-731C-446B-B819-96715FB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B6365-B05B-4869-99CE-BA9CED67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F6CED-7A68-46A9-8B66-025E7BB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1100E3-F54B-40B9-9301-46F68C3D41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E0772F-E2D0-47CA-9783-11318742179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6E7C43-49E5-4E7C-8526-40D6250543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3BD6CF-87F7-4781-8F0F-674A585525A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908262-3727-4F83-A081-BF86055024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E88C-77B3-45CE-B80A-60ECB756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B8C25B-78EF-42BC-98A6-F73B3B35D9F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24CC30-9A02-4384-AF6F-F5DD2395228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C73050-E8D4-465D-A5A6-52EEEE8A4B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ACFBF2-A224-48B9-B1CF-451F75DC931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0A0C54-41FC-4FAF-9C27-AC4AFFEFD82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3D3405-17D2-4693-B9C9-0F8606A0A4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B81962-3A66-48DB-AD79-D30099CE4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66E-90AA-49E4-A37F-9F4528E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C415-C12D-4A26-9C15-24AC8A59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19D7-D11A-422D-9CD4-B22432D4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B8DE-44B7-49C0-88EB-DFE1E6B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2C2-93DA-4B8D-80CF-90334B10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6C8-B90B-4B2A-8914-089B8D1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A0E-9E3A-4060-8A87-34278E0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F45-11E3-4E4A-8298-252B799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F4D-42F9-4A26-993A-F3E17B20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13F6-2E2E-42AE-9267-BAFC04A4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248F-210F-4570-A896-D7CFDA68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ADA9-1387-4750-8991-019A826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100F-1C0C-4F51-8025-E64AB02E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D768-68F1-40E2-9140-91F8CB14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2AE1-D617-49A8-AC55-33CF1F13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35D-78B6-4DA3-95F0-8ABEF72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DA3F-3A1A-46D3-97CE-00717FA6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E63A-A9A5-46AA-BD7A-2DCD9B2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4B35-BA65-48E1-A602-F76DBC36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BB60-59EF-4E91-816D-B5C0141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F178-FBC4-480C-8C4E-380FBD39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849D-366C-42DC-A210-D32D23D4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DEAD-5576-4096-9E9A-B29ACDBD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B857-34CB-4475-A9BD-4D7534CA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901F-EBD3-4118-BFB0-C3E31065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E8E2-8515-4653-BF68-A69AF5C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B07-10B9-4A9B-AAAC-09395D08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DA8E-F0E6-4884-93B7-20D34AE0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1B76-C685-42A6-93BB-93474C9D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1BFAF-D227-4DD3-9887-1FDF5E89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50EC-6D54-4FFC-8C04-D4C2C52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7BAB-E796-402C-9089-C6E3AEE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061F-F976-4286-9B38-7A6A991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1119-F82C-4038-A43A-D606E4FB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2C89-C63B-4AA2-A15E-757562C4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1153-D29D-4BB3-89BE-E5DE6ED8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5AF6-D73C-4FDB-8B75-1F2FDB4A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774-E17F-4BD6-B64F-5EF6D02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6C4D-E6E8-497F-8CFC-164F2DE7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9E0FB-3255-42D2-B75F-49939F05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7FE3-151D-40ED-8ACD-377DC784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52F4-ECB7-4E14-B8BE-C446038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14945-18EE-410B-ACDE-220CE20F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A265-5B9F-42D0-8B43-9CEB49B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C0A9A-C3C4-476F-94FC-2035A27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DB4C4-9E49-4D05-91EE-C17FD38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BE0D-4233-47D4-8E2E-62A2767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2764C-FCA9-49DC-A525-105E24B6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B2F-98C2-4F1F-A24C-453C84B7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2CD4-AEE6-44D7-82CD-3132EBE7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86E0-7779-4F1F-BA08-4D51EDBC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8C20-FEEB-4DA4-B1E5-89876ED2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0F33-E79A-4B02-8833-60F606A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F2E7-438C-4259-825A-8858BCF4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88B0-95C4-4528-9DA1-B411DF94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DB2E-7387-4A55-B02D-BF4423A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10AF0-36C2-4151-B5C6-38B4941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21B8-78FA-4320-AC83-3E302F1B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1D75-4EE9-459C-B0D2-32D44C1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CEC-7705-44EB-A78F-F3119D9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6F3FD-CC52-48C8-B684-DD00DC2D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4AB4-98CE-4190-8E98-755D16EB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14133-D0C3-475C-9676-DA467923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73E37-2E92-4192-B380-D27E4DEB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E972-A256-492E-8014-85D10429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DA72-B5FC-46FC-BFB1-5FBF75C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115CB-9ED2-44E6-8DE5-796518F6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85194-503C-408A-9320-7E2F9B25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A42C2-232E-4D52-82D3-0814C8CC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D289-CA80-4D09-AC5B-0806CDD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F73-7573-4224-97E4-EECD960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41C6D-5F45-4D1C-A424-7100F61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B9CD-9EC4-4F5C-8BA6-8BADF96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40640-78A3-4691-A92D-E5B13995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BE9B-347C-409C-9A2A-DC11D97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CE61-3FA0-4B81-A38D-6906E79C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1C6C3-00F4-4CA0-A41A-639A2335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FF7BF-1AC5-4CAC-B68A-5D61A6AE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AD87-00FA-470C-BD95-DB5F1B0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9566F-A2F2-4895-9F8C-6AE0F355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8F93-EE35-4E34-BF82-869B833E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202-3373-4E16-8503-00025678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466D-06C6-46DD-A26D-7A52A0A1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BB533-9FCC-4BD1-9DC8-42A49DB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F8AE8-6C1F-4B94-B0AC-65C5E34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83F2F-1019-458E-9619-2765597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8DBB5-F1C1-40F0-B0BD-954A255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98F8D-D856-44F8-8756-730B90D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E4D4-D1D6-48F1-A306-348E9DCB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91CDF-AB02-4933-BBB1-B1F3CF9A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DA540-F7B6-4CE7-B8B8-CAA89353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2971E-391B-4ECF-B99D-270297F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</a:t>
            </a:r>
            <a:fld id="{06D481CE-939F-479F-BEA7-98294FE0B74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D70-9F68-424B-8E43-53ADC15224E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F13-D817-46E0-9610-26EA981A4CC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8620-FE62-4656-B734-AA818C4516C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6E40-A86D-49F9-8B63-7D2A3D964940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CF8A-215D-48F1-954B-638ABDE10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57480" y="6071760"/>
            <a:ext cx="2895480" cy="78588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 </a:t>
            </a:r>
            <a:fld id="{CF29CBCC-2CA7-4812-9D7E-44781F861E4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91B3-8FEA-4B6B-8585-7AE7F3E3EF4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E719-038D-4688-9913-FEE025B3C24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527F-392D-4C48-B687-80317062F28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3C9F-F88E-4A07-B2AD-762D0BB6A31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A2A-7742-4E0E-B594-1339E2D1FB9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117-3275-4EAC-BE05-8FA9D9FC3AB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14240"/>
            <a:ext cx="7490160" cy="257040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Assurer le droit à l’eau potable et à l’assainissement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pour la moitié urbaine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de la population mondial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78920" y="6286320"/>
            <a:ext cx="6535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adeGothic"/>
              </a:rPr>
              <a:t>Paris, Réseau Projection, 19 janvier 2012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08000" y="3911760"/>
            <a:ext cx="9036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Gérard PA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nseiller pour l’Eau et l’Assainissement du Secrétaire Général des Nations Unies (UNSGAB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ésident d’AquaFed, la fédération internationale des opérateurs privés de services d’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Variations mondiales de 2000 à fin 2008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66596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4C315555-6F97-483E-B312-AA3AEBF1D46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1000080"/>
          <a:ext cx="9144000" cy="5865840"/>
        </p:xfrm>
        <a:graphic>
          <a:graphicData uri="http://schemas.openxmlformats.org/drawingml/2006/table">
            <a:tbl>
              <a:tblPr/>
              <a:tblGrid>
                <a:gridCol w="1332000"/>
                <a:gridCol w="5681520"/>
                <a:gridCol w="2130480"/>
              </a:tblGrid>
              <a:tr h="73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Population urba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747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permanent à l’eau cour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à une source “améliorée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4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723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collecte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des toilettes hygiéniques et priv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des installations même frus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5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3" name="ZoneTexte 5"/>
          <p:cNvSpPr/>
          <p:nvPr/>
        </p:nvSpPr>
        <p:spPr>
          <a:xfrm rot="16200000">
            <a:off x="-575280" y="2611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ZoneTexte 6"/>
          <p:cNvSpPr/>
          <p:nvPr/>
        </p:nvSpPr>
        <p:spPr>
          <a:xfrm rot="16200000">
            <a:off x="-880920" y="5127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ZoneTexte 6"/>
          <p:cNvSpPr/>
          <p:nvPr/>
        </p:nvSpPr>
        <p:spPr>
          <a:xfrm>
            <a:off x="4155840" y="1143000"/>
            <a:ext cx="2693880" cy="520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ahoma"/>
                <a:ea typeface="Tahoma"/>
              </a:rPr>
              <a:t>(+ 510 mill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8A3D24E7-B202-4D5E-9040-316AECADD3A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9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4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8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41EADEDF-9029-446C-B674-689A02B1BBF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616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1" name="Connecteur droit avec flèche 11"/>
          <p:cNvCxnSpPr/>
          <p:nvPr/>
        </p:nvCxnSpPr>
        <p:spPr>
          <a:xfrm flipV="1">
            <a:off x="6143400" y="264276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Connecteur droit avec flèche 12"/>
          <p:cNvCxnSpPr/>
          <p:nvPr/>
        </p:nvCxnSpPr>
        <p:spPr>
          <a:xfrm flipV="1">
            <a:off x="6000480" y="5714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3" name="Connecteur droit avec flèche 23"/>
          <p:cNvCxnSpPr/>
          <p:nvPr/>
        </p:nvCxnSpPr>
        <p:spPr>
          <a:xfrm flipV="1">
            <a:off x="6000480" y="3428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Connecteur droit avec flèche 24"/>
          <p:cNvCxnSpPr/>
          <p:nvPr/>
        </p:nvCxnSpPr>
        <p:spPr>
          <a:xfrm flipV="1">
            <a:off x="5929200" y="642600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5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6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9" name="ZoneTexte 26"/>
          <p:cNvSpPr/>
          <p:nvPr/>
        </p:nvSpPr>
        <p:spPr>
          <a:xfrm>
            <a:off x="5610240" y="24289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ZoneTexte 27"/>
          <p:cNvSpPr/>
          <p:nvPr/>
        </p:nvSpPr>
        <p:spPr>
          <a:xfrm>
            <a:off x="5569560" y="31431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ZoneTexte 29"/>
          <p:cNvSpPr/>
          <p:nvPr/>
        </p:nvSpPr>
        <p:spPr>
          <a:xfrm>
            <a:off x="5538600" y="54291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ZoneTexte 30"/>
          <p:cNvSpPr/>
          <p:nvPr/>
        </p:nvSpPr>
        <p:spPr>
          <a:xfrm>
            <a:off x="5665680" y="621504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+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ce réservé du contenu 2"/>
          <p:cNvSpPr/>
          <p:nvPr/>
        </p:nvSpPr>
        <p:spPr>
          <a:xfrm rot="21150600">
            <a:off x="534960" y="3668760"/>
            <a:ext cx="82152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ahoma"/>
                <a:ea typeface="Tahoma"/>
              </a:rPr>
              <a:t>Les efforts actuels ne sont pas suffisants pour assurer un accès satisfaisant à l’eau potable pour t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EFA-4334-4E47-8C7C-BA41491715A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Espace réservé du contenu 2"/>
          <p:cNvSpPr/>
          <p:nvPr/>
        </p:nvSpPr>
        <p:spPr>
          <a:xfrm>
            <a:off x="468360" y="2060640"/>
            <a:ext cx="6572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ahoma"/>
                <a:ea typeface="Tahoma"/>
              </a:rPr>
              <a:t>L’accès à l’eau régresse dans la moitié urbaine du monde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026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71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ahoma"/>
              </a:rPr>
              <a:t>La course-poursuite entre politiques publiques et urban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Espace réservé du contenu 2"/>
          <p:cNvSpPr/>
          <p:nvPr/>
        </p:nvSpPr>
        <p:spPr>
          <a:xfrm rot="21081000">
            <a:off x="44280" y="183960"/>
            <a:ext cx="251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U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ZoneTexte 7"/>
          <p:cNvSpPr/>
          <p:nvPr/>
        </p:nvSpPr>
        <p:spPr>
          <a:xfrm>
            <a:off x="237240" y="61498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66"/>
                </a:solidFill>
                <a:latin typeface="Tahoma"/>
                <a:ea typeface="Tahoma"/>
              </a:rPr>
              <a:t>1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Voir communiqué AquaFed du 7 septembre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et déclaration Ban Ki-Moon du 22 mars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3. Le nouveau Droit  de l’Hom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928800" y="142884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Dro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radeGothic"/>
                <a:ea typeface="Tahoma"/>
              </a:rPr>
              <a:t>les Eléments du 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8B5A-EF67-42FA-B905-1E1949A1B0A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5429160" y="1428840"/>
            <a:ext cx="335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Professionn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e 33"/>
          <p:cNvGrpSpPr/>
          <p:nvPr/>
        </p:nvGrpSpPr>
        <p:grpSpPr>
          <a:xfrm>
            <a:off x="285840" y="2357280"/>
            <a:ext cx="7744680" cy="500400"/>
            <a:chOff x="285840" y="2357280"/>
            <a:chExt cx="7744680" cy="500400"/>
          </a:xfrm>
        </p:grpSpPr>
        <p:sp>
          <p:nvSpPr>
            <p:cNvPr id="651" name="Rectangle à coins arrondis 10"/>
            <p:cNvSpPr/>
            <p:nvPr/>
          </p:nvSpPr>
          <p:spPr>
            <a:xfrm>
              <a:off x="285840" y="2357280"/>
              <a:ext cx="2571840" cy="50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po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2" name="Groupe 26"/>
            <p:cNvGrpSpPr/>
            <p:nvPr/>
          </p:nvGrpSpPr>
          <p:grpSpPr>
            <a:xfrm>
              <a:off x="3571560" y="2357280"/>
              <a:ext cx="4458960" cy="459720"/>
              <a:chOff x="3571560" y="2357280"/>
              <a:chExt cx="4458960" cy="459720"/>
            </a:xfrm>
          </p:grpSpPr>
          <p:sp>
            <p:nvSpPr>
              <p:cNvPr id="653" name="ZoneTexte 13"/>
              <p:cNvSpPr/>
              <p:nvPr/>
            </p:nvSpPr>
            <p:spPr>
              <a:xfrm>
                <a:off x="4972320" y="2357280"/>
                <a:ext cx="30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Norme de potabilit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Flèche droite 19"/>
              <p:cNvSpPr/>
              <p:nvPr/>
            </p:nvSpPr>
            <p:spPr>
              <a:xfrm>
                <a:off x="3571560" y="25002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Groupe 34"/>
          <p:cNvGrpSpPr/>
          <p:nvPr/>
        </p:nvGrpSpPr>
        <p:grpSpPr>
          <a:xfrm>
            <a:off x="285840" y="3071880"/>
            <a:ext cx="7027920" cy="500040"/>
            <a:chOff x="285840" y="3071880"/>
            <a:chExt cx="7027920" cy="500040"/>
          </a:xfrm>
        </p:grpSpPr>
        <p:sp>
          <p:nvSpPr>
            <p:cNvPr id="656" name="Rectangle à coins arrondis 6"/>
            <p:cNvSpPr/>
            <p:nvPr/>
          </p:nvSpPr>
          <p:spPr>
            <a:xfrm>
              <a:off x="285840" y="3071880"/>
              <a:ext cx="278604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p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7" name="Groupe 27"/>
            <p:cNvGrpSpPr/>
            <p:nvPr/>
          </p:nvGrpSpPr>
          <p:grpSpPr>
            <a:xfrm>
              <a:off x="3571560" y="3071880"/>
              <a:ext cx="3742200" cy="459720"/>
              <a:chOff x="3571560" y="3071880"/>
              <a:chExt cx="3742200" cy="459720"/>
            </a:xfrm>
          </p:grpSpPr>
          <p:sp>
            <p:nvSpPr>
              <p:cNvPr id="658" name="ZoneTexte 14"/>
              <p:cNvSpPr/>
              <p:nvPr/>
            </p:nvSpPr>
            <p:spPr>
              <a:xfrm>
                <a:off x="4979520" y="3071880"/>
                <a:ext cx="233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Couleur, odeu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Flèche droite 21"/>
              <p:cNvSpPr/>
              <p:nvPr/>
            </p:nvSpPr>
            <p:spPr>
              <a:xfrm>
                <a:off x="3571560" y="32148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Groupe 35"/>
          <p:cNvGrpSpPr/>
          <p:nvPr/>
        </p:nvGrpSpPr>
        <p:grpSpPr>
          <a:xfrm>
            <a:off x="285840" y="3786120"/>
            <a:ext cx="8564040" cy="500040"/>
            <a:chOff x="285840" y="3786120"/>
            <a:chExt cx="8564040" cy="500040"/>
          </a:xfrm>
        </p:grpSpPr>
        <p:sp>
          <p:nvSpPr>
            <p:cNvPr id="661" name="Rectangle à coins arrondis 9"/>
            <p:cNvSpPr/>
            <p:nvPr/>
          </p:nvSpPr>
          <p:spPr>
            <a:xfrm>
              <a:off x="285840" y="3786120"/>
              <a:ext cx="357192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ssible, disponi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Groupe 28"/>
            <p:cNvGrpSpPr/>
            <p:nvPr/>
          </p:nvGrpSpPr>
          <p:grpSpPr>
            <a:xfrm>
              <a:off x="4072320" y="3786120"/>
              <a:ext cx="4777560" cy="459720"/>
              <a:chOff x="4072320" y="3786120"/>
              <a:chExt cx="4777560" cy="459720"/>
            </a:xfrm>
          </p:grpSpPr>
          <p:sp>
            <p:nvSpPr>
              <p:cNvPr id="663" name="ZoneTexte 18"/>
              <p:cNvSpPr/>
              <p:nvPr/>
            </p:nvSpPr>
            <p:spPr>
              <a:xfrm>
                <a:off x="4991760" y="3786120"/>
                <a:ext cx="385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24/7, distance point d’ea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Flèche droite 22"/>
              <p:cNvSpPr/>
              <p:nvPr/>
            </p:nvSpPr>
            <p:spPr>
              <a:xfrm>
                <a:off x="4072320" y="3929040"/>
                <a:ext cx="928440" cy="214560"/>
              </a:xfrm>
              <a:prstGeom prst="rightArrow">
                <a:avLst>
                  <a:gd name="adj1" fmla="val 50000"/>
                  <a:gd name="adj2" fmla="val 4992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e 36"/>
          <p:cNvGrpSpPr/>
          <p:nvPr/>
        </p:nvGrpSpPr>
        <p:grpSpPr>
          <a:xfrm>
            <a:off x="285840" y="4500720"/>
            <a:ext cx="7414200" cy="531000"/>
            <a:chOff x="285840" y="4500720"/>
            <a:chExt cx="7414200" cy="531000"/>
          </a:xfrm>
        </p:grpSpPr>
        <p:sp>
          <p:nvSpPr>
            <p:cNvPr id="666" name="Rectangle à coins arrondis 7"/>
            <p:cNvSpPr/>
            <p:nvPr/>
          </p:nvSpPr>
          <p:spPr>
            <a:xfrm>
              <a:off x="285840" y="450072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d’un coût abord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Groupe 29"/>
            <p:cNvGrpSpPr/>
            <p:nvPr/>
          </p:nvGrpSpPr>
          <p:grpSpPr>
            <a:xfrm>
              <a:off x="4071960" y="4572000"/>
              <a:ext cx="3628080" cy="459720"/>
              <a:chOff x="4071960" y="4572000"/>
              <a:chExt cx="3628080" cy="459720"/>
            </a:xfrm>
          </p:grpSpPr>
          <p:sp>
            <p:nvSpPr>
              <p:cNvPr id="668" name="ZoneTexte 15"/>
              <p:cNvSpPr/>
              <p:nvPr/>
            </p:nvSpPr>
            <p:spPr>
              <a:xfrm>
                <a:off x="4993920" y="4572000"/>
                <a:ext cx="270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Tarification, aid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lèche droite 23"/>
              <p:cNvSpPr/>
              <p:nvPr/>
            </p:nvSpPr>
            <p:spPr>
              <a:xfrm>
                <a:off x="4071960" y="46432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0" name="Groupe 37"/>
          <p:cNvGrpSpPr/>
          <p:nvPr/>
        </p:nvGrpSpPr>
        <p:grpSpPr>
          <a:xfrm>
            <a:off x="285840" y="5214960"/>
            <a:ext cx="8179560" cy="500040"/>
            <a:chOff x="285840" y="5214960"/>
            <a:chExt cx="8179560" cy="500040"/>
          </a:xfrm>
        </p:grpSpPr>
        <p:sp>
          <p:nvSpPr>
            <p:cNvPr id="671" name="Rectangle à coins arrondis 11"/>
            <p:cNvSpPr/>
            <p:nvPr/>
          </p:nvSpPr>
          <p:spPr>
            <a:xfrm>
              <a:off x="285840" y="521496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en quantité suffisan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Groupe 30"/>
            <p:cNvGrpSpPr/>
            <p:nvPr/>
          </p:nvGrpSpPr>
          <p:grpSpPr>
            <a:xfrm>
              <a:off x="4071960" y="5214960"/>
              <a:ext cx="4393440" cy="459720"/>
              <a:chOff x="4071960" y="5214960"/>
              <a:chExt cx="4393440" cy="459720"/>
            </a:xfrm>
          </p:grpSpPr>
          <p:sp>
            <p:nvSpPr>
              <p:cNvPr id="673" name="ZoneTexte 16"/>
              <p:cNvSpPr/>
              <p:nvPr/>
            </p:nvSpPr>
            <p:spPr>
              <a:xfrm>
                <a:off x="5047560" y="5214960"/>
                <a:ext cx="34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Pression minimale, e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lèche droite 24"/>
              <p:cNvSpPr/>
              <p:nvPr/>
            </p:nvSpPr>
            <p:spPr>
              <a:xfrm>
                <a:off x="4071960" y="53578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Groupe 38"/>
          <p:cNvGrpSpPr/>
          <p:nvPr/>
        </p:nvGrpSpPr>
        <p:grpSpPr>
          <a:xfrm>
            <a:off x="285840" y="5857920"/>
            <a:ext cx="7435800" cy="825480"/>
            <a:chOff x="285840" y="5857920"/>
            <a:chExt cx="7435800" cy="825480"/>
          </a:xfrm>
        </p:grpSpPr>
        <p:sp>
          <p:nvSpPr>
            <p:cNvPr id="676" name="Rectangle à coins arrondis 4"/>
            <p:cNvSpPr/>
            <p:nvPr/>
          </p:nvSpPr>
          <p:spPr>
            <a:xfrm>
              <a:off x="285840" y="5929200"/>
              <a:ext cx="350028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sans discr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7" name="Groupe 31"/>
            <p:cNvGrpSpPr/>
            <p:nvPr/>
          </p:nvGrpSpPr>
          <p:grpSpPr>
            <a:xfrm>
              <a:off x="4072320" y="5857920"/>
              <a:ext cx="3649320" cy="825480"/>
              <a:chOff x="4072320" y="5857920"/>
              <a:chExt cx="3649320" cy="825480"/>
            </a:xfrm>
          </p:grpSpPr>
          <p:sp>
            <p:nvSpPr>
              <p:cNvPr id="678" name="ZoneTexte 17"/>
              <p:cNvSpPr/>
              <p:nvPr/>
            </p:nvSpPr>
            <p:spPr>
              <a:xfrm>
                <a:off x="5099400" y="5857920"/>
                <a:ext cx="26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Égalité devant l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service publ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Flèche droite 25"/>
              <p:cNvSpPr/>
              <p:nvPr/>
            </p:nvSpPr>
            <p:spPr>
              <a:xfrm>
                <a:off x="4072320" y="6071760"/>
                <a:ext cx="1000080" cy="213840"/>
              </a:xfrm>
              <a:prstGeom prst="rightArrow">
                <a:avLst>
                  <a:gd name="adj1" fmla="val 50000"/>
                  <a:gd name="adj2" fmla="val 50102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Double flèche horizontale 32"/>
          <p:cNvSpPr/>
          <p:nvPr/>
        </p:nvSpPr>
        <p:spPr>
          <a:xfrm>
            <a:off x="3000240" y="1571760"/>
            <a:ext cx="2214720" cy="35712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Coûts abordables: attention au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effets des 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B6F-1BB6-4D70-9752-04D6BBEB28B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e 9"/>
          <p:cNvGrpSpPr/>
          <p:nvPr/>
        </p:nvGrpSpPr>
        <p:grpSpPr>
          <a:xfrm>
            <a:off x="500040" y="3143160"/>
            <a:ext cx="8143920" cy="2428920"/>
            <a:chOff x="500040" y="3143160"/>
            <a:chExt cx="8143920" cy="2428920"/>
          </a:xfrm>
        </p:grpSpPr>
        <p:sp>
          <p:nvSpPr>
            <p:cNvPr id="684" name="Rectangle à coins arrondis 4"/>
            <p:cNvSpPr/>
            <p:nvPr/>
          </p:nvSpPr>
          <p:spPr>
            <a:xfrm>
              <a:off x="500040" y="3143160"/>
              <a:ext cx="314316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à coins arrondis 6"/>
            <p:cNvSpPr/>
            <p:nvPr/>
          </p:nvSpPr>
          <p:spPr>
            <a:xfrm>
              <a:off x="5429160" y="3143160"/>
              <a:ext cx="321480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Non 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Double flèche horizontale 7"/>
            <p:cNvSpPr/>
            <p:nvPr/>
          </p:nvSpPr>
          <p:spPr>
            <a:xfrm>
              <a:off x="3786120" y="4214880"/>
              <a:ext cx="1500120" cy="714240"/>
            </a:xfrm>
            <a:prstGeom prst="leftRightArrow">
              <a:avLst>
                <a:gd name="adj1" fmla="val 50000"/>
                <a:gd name="adj2" fmla="val 5000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ZoneTexte 8"/>
          <p:cNvSpPr/>
          <p:nvPr/>
        </p:nvSpPr>
        <p:spPr>
          <a:xfrm>
            <a:off x="556920" y="185724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lèche vers le bas 10"/>
          <p:cNvSpPr/>
          <p:nvPr/>
        </p:nvSpPr>
        <p:spPr>
          <a:xfrm>
            <a:off x="1500120" y="2571840"/>
            <a:ext cx="100008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ZoneTexte 11"/>
          <p:cNvSpPr/>
          <p:nvPr/>
        </p:nvSpPr>
        <p:spPr>
          <a:xfrm>
            <a:off x="5674680" y="5657760"/>
            <a:ext cx="28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Coût 10 fo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plus élev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Espace réservé du numéro de diapositive 5"/>
          <p:cNvSpPr/>
          <p:nvPr/>
        </p:nvSpPr>
        <p:spPr>
          <a:xfrm>
            <a:off x="8429760" y="6400800"/>
            <a:ext cx="71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7300-A508-43FA-83E8-4423501882A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507204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TradeGothic"/>
              </a:rPr>
              <a:t>Coût abordable: </a:t>
            </a:r>
            <a:br>
              <a:rPr sz="4000"/>
            </a:b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bien vérifier l’impact des subventions pour les plus pauvre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3929040" y="3143160"/>
            <a:ext cx="47624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mécanismes non ciblés comme les tranches tarifaires croissantes peuvent bénéficier davantage aux riches qu’aux pauv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Groupe 15"/>
          <p:cNvGrpSpPr/>
          <p:nvPr/>
        </p:nvGrpSpPr>
        <p:grpSpPr>
          <a:xfrm>
            <a:off x="0" y="0"/>
            <a:ext cx="3527280" cy="6883560"/>
            <a:chOff x="0" y="0"/>
            <a:chExt cx="3527280" cy="6883560"/>
          </a:xfrm>
        </p:grpSpPr>
        <p:grpSp>
          <p:nvGrpSpPr>
            <p:cNvPr id="694" name="Groupe 14"/>
            <p:cNvGrpSpPr/>
            <p:nvPr/>
          </p:nvGrpSpPr>
          <p:grpSpPr>
            <a:xfrm>
              <a:off x="0" y="0"/>
              <a:ext cx="3527280" cy="6883560"/>
              <a:chOff x="0" y="0"/>
              <a:chExt cx="3527280" cy="6883560"/>
            </a:xfrm>
          </p:grpSpPr>
          <p:pic>
            <p:nvPicPr>
              <p:cNvPr id="69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527280" cy="688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480" y="3286080"/>
                <a:ext cx="2866680" cy="239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" y="1143000"/>
                <a:ext cx="2841480" cy="239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37600" y="0"/>
                <a:ext cx="2858400" cy="145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9" name="Picture 9" descr=""/>
            <p:cNvPicPr/>
            <p:nvPr/>
          </p:nvPicPr>
          <p:blipFill>
            <a:blip r:embed="rId5"/>
            <a:stretch/>
          </p:blipFill>
          <p:spPr>
            <a:xfrm>
              <a:off x="642600" y="5643720"/>
              <a:ext cx="25524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10" descr=""/>
            <p:cNvPicPr/>
            <p:nvPr/>
          </p:nvPicPr>
          <p:blipFill>
            <a:blip r:embed="rId6"/>
            <a:stretch/>
          </p:blipFill>
          <p:spPr>
            <a:xfrm>
              <a:off x="108000" y="6678360"/>
              <a:ext cx="160308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e 8"/>
          <p:cNvGrpSpPr/>
          <p:nvPr/>
        </p:nvGrpSpPr>
        <p:grpSpPr>
          <a:xfrm>
            <a:off x="2142360" y="1285200"/>
            <a:ext cx="1715040" cy="2143440"/>
            <a:chOff x="2142360" y="1285200"/>
            <a:chExt cx="1715040" cy="2143440"/>
          </a:xfrm>
        </p:grpSpPr>
        <p:cxnSp>
          <p:nvCxnSpPr>
            <p:cNvPr id="702" name="Connecteur droit avec flèche 7"/>
            <p:cNvCxnSpPr/>
            <p:nvPr/>
          </p:nvCxnSpPr>
          <p:spPr>
            <a:xfrm flipH="1" flipV="1">
              <a:off x="2856960" y="1285200"/>
              <a:ext cx="1000800" cy="214380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703" name="Connecteur droit avec flèche 8"/>
            <p:cNvCxnSpPr/>
            <p:nvPr/>
          </p:nvCxnSpPr>
          <p:spPr>
            <a:xfrm flipH="1" flipV="1">
              <a:off x="2142360" y="1713960"/>
              <a:ext cx="1715400" cy="164376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704" name="Rectangle 4"/>
          <p:cNvSpPr/>
          <p:nvPr/>
        </p:nvSpPr>
        <p:spPr>
          <a:xfrm>
            <a:off x="3500280" y="621504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ource: UN 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evelopment Report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Freins juridiques / poli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 </a:t>
            </a: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au raccordement des bidonvil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4C64-1A2E-4E7D-A19A-6675A804D7B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à coins arrondis 4"/>
          <p:cNvSpPr/>
          <p:nvPr/>
        </p:nvSpPr>
        <p:spPr>
          <a:xfrm>
            <a:off x="857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à coins arrondis 6"/>
          <p:cNvSpPr/>
          <p:nvPr/>
        </p:nvSpPr>
        <p:spPr>
          <a:xfrm>
            <a:off x="5429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de proprié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Double flèche horizontale 7"/>
          <p:cNvSpPr/>
          <p:nvPr/>
        </p:nvSpPr>
        <p:spPr>
          <a:xfrm>
            <a:off x="3786120" y="4071960"/>
            <a:ext cx="1500120" cy="71424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CF7-9345-4E52-BFEE-99757AB2950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3571920" y="15840"/>
            <a:ext cx="5572080" cy="6842160"/>
          </a:xfrm>
          <a:prstGeom prst="rect">
            <a:avLst/>
          </a:prstGeom>
          <a:ln w="0">
            <a:noFill/>
          </a:ln>
        </p:spPr>
      </p:pic>
      <p:sp>
        <p:nvSpPr>
          <p:cNvPr id="712" name="ZoneTexte 6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Tahoma"/>
                <a:ea typeface="Tahoma"/>
              </a:rPr>
              <a:t>4. Vers des politiques plus ambitie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3" name="Picture 6" descr=""/>
          <p:cNvPicPr/>
          <p:nvPr/>
        </p:nvPicPr>
        <p:blipFill>
          <a:blip r:embed="rId2"/>
          <a:stretch/>
        </p:blipFill>
        <p:spPr>
          <a:xfrm>
            <a:off x="0" y="2781360"/>
            <a:ext cx="49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BB5-C7AC-49B2-8DEC-CAFD77D7C18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  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Conseil consultatif pour l’Eau et l’Assainissement </a:t>
            </a:r>
            <a:br>
              <a:rPr sz="2800"/>
            </a:b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   du Secrétaire général des Nations Unies</a:t>
            </a:r>
            <a:br>
              <a:rPr sz="2800"/>
            </a:b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       “</a:t>
            </a:r>
            <a:r>
              <a:rPr b="1" lang="fr-FR" sz="3200" spc="-1" strike="noStrike">
                <a:solidFill>
                  <a:srgbClr val="0033cc"/>
                </a:solidFill>
                <a:latin typeface="TradeGothic"/>
              </a:rPr>
              <a:t>UNSGAB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”</a:t>
            </a:r>
            <a:endParaRPr b="0" lang="en-US" sz="32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0040" y="2428920"/>
            <a:ext cx="8136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Conseil indépendant de haut niveau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ahoma"/>
                <a:ea typeface="Tahoma"/>
              </a:rPr>
              <a:t>Créé par Kofi Annan le 22 mars 2004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pour stimuler l’action des décideurs politiques en matière d’accès à l’eau potable et à l’assainissement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22 membres en provenance de tous les continents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203640" y="6308640"/>
            <a:ext cx="30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www.unsgab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UN logo blue"/>
          <p:cNvPicPr/>
          <p:nvPr/>
        </p:nvPicPr>
        <p:blipFill>
          <a:blip r:embed="rId1"/>
          <a:stretch/>
        </p:blipFill>
        <p:spPr>
          <a:xfrm>
            <a:off x="214200" y="714240"/>
            <a:ext cx="11606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Quels objectifs mondiaux?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sources amélioré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 ?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toilettes privativ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:  toilettes + eaux usées?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6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C5B-9E7A-4152-9F3A-C53F511621B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10920" y="1413000"/>
            <a:ext cx="784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la moitié de la population mondiale utilise une eau de qualité douteuse.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Davantage de personnes ont leur droit à l’eau potable non satisfai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9" name="Rectangle 1"/>
          <p:cNvSpPr/>
          <p:nvPr/>
        </p:nvSpPr>
        <p:spPr>
          <a:xfrm>
            <a:off x="395280" y="6023520"/>
            <a:ext cx="77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Source: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Les besoins en eau potable dans le monde sont sous-estimés :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des milliards de personnes sont concernées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Gérard Payen, 2011 in 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Le Droit à l’eau potable et à l’assainissement, sa mise en œuvre en Europe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adeGothic"/>
              </a:rPr>
              <a:t>www.aquafed.org/pop_up_4billion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Le nombre de personnes n’ayant pas accès à des toilettes privatives correctes ne baisse pas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80% des eaux usées par l’homme sont rejetées dans la nature sans dépollution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2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1B27-330D-454E-8EB2-9484A6210A9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AD0-703E-43F5-BE35-E7850D633A4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0" y="2406600"/>
            <a:ext cx="5931000" cy="4451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2"/>
          <a:stretch/>
        </p:blipFill>
        <p:spPr>
          <a:xfrm rot="20911800">
            <a:off x="4834080" y="610920"/>
            <a:ext cx="3886200" cy="591984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3"/>
          <p:cNvSpPr/>
          <p:nvPr/>
        </p:nvSpPr>
        <p:spPr>
          <a:xfrm>
            <a:off x="755640" y="5493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Merci pour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925-65ED-4D7A-9E0F-848CAF5F067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ZoneTexte 3"/>
          <p:cNvSpPr/>
          <p:nvPr/>
        </p:nvSpPr>
        <p:spPr>
          <a:xfrm>
            <a:off x="2050920" y="2349360"/>
            <a:ext cx="48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unsgab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aquafed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132000" y="551664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radeGothic"/>
              </a:rPr>
              <a:t>Ban Ki-Moon, 22 mars 2011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CC0-4892-4503-84D2-BAC4B5213EC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ZoneTexte 4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    </a:t>
            </a: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« L’Eau pour les Villes 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Thème de la Journée mondiale de l’Eau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à coins arrondis 7"/>
          <p:cNvSpPr/>
          <p:nvPr/>
        </p:nvSpPr>
        <p:spPr>
          <a:xfrm>
            <a:off x="611280" y="2060640"/>
            <a:ext cx="7848360" cy="33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« La crise de l’eau qui touche 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zones urbaines tient da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des problèmes de gouvernan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’insuffisance des politiques 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a mauvaise ges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qu’à des problèmes de pénurie.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Le Droit à l’eau pour les citadin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5640" y="2565000"/>
            <a:ext cx="75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ynamiques urbain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éveloppement de l’accès à l’eau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Le nouveau Droit de l’Homme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Vers des politiques plus ambitieus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6305-BF50-45FF-BC18-1576559151B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à coins arrondis 4"/>
          <p:cNvSpPr/>
          <p:nvPr/>
        </p:nvSpPr>
        <p:spPr>
          <a:xfrm>
            <a:off x="250920" y="2565360"/>
            <a:ext cx="82818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1.  Dynamiques urba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1"/>
          <p:cNvSpPr/>
          <p:nvPr/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698-6C12-471C-AC42-424F47B8C49A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5459400" y="1800360"/>
            <a:ext cx="3684600" cy="5057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0" y="773280"/>
            <a:ext cx="5483160" cy="60847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à coins arrondis 5"/>
          <p:cNvSpPr/>
          <p:nvPr/>
        </p:nvSpPr>
        <p:spPr>
          <a:xfrm>
            <a:off x="0" y="0"/>
            <a:ext cx="9144000" cy="18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ans les pays en développ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ahoma"/>
                <a:ea typeface="Tahoma"/>
              </a:rPr>
              <a:t>33% 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es citadins habitent des bidon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ZoneTexte 11"/>
          <p:cNvSpPr/>
          <p:nvPr/>
        </p:nvSpPr>
        <p:spPr>
          <a:xfrm>
            <a:off x="122760" y="61437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Groupe 8"/>
          <p:cNvGrpSpPr/>
          <p:nvPr/>
        </p:nvGrpSpPr>
        <p:grpSpPr>
          <a:xfrm>
            <a:off x="1619280" y="1197000"/>
            <a:ext cx="6854400" cy="581400"/>
            <a:chOff x="1619280" y="1197000"/>
            <a:chExt cx="6854400" cy="581400"/>
          </a:xfrm>
        </p:grpSpPr>
        <p:sp>
          <p:nvSpPr>
            <p:cNvPr id="561" name="Flèche droite 6"/>
            <p:cNvSpPr/>
            <p:nvPr/>
          </p:nvSpPr>
          <p:spPr>
            <a:xfrm>
              <a:off x="1619280" y="1340640"/>
              <a:ext cx="1728000" cy="287640"/>
            </a:xfrm>
            <a:prstGeom prst="rightArrow">
              <a:avLst>
                <a:gd name="adj1" fmla="val 50000"/>
                <a:gd name="adj2" fmla="val 5006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ZoneTexte 7"/>
            <p:cNvSpPr/>
            <p:nvPr/>
          </p:nvSpPr>
          <p:spPr>
            <a:xfrm>
              <a:off x="3285000" y="1197000"/>
              <a:ext cx="518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6600"/>
                  </a:solidFill>
                  <a:latin typeface="TradeGothic"/>
                </a:rPr>
                <a:t>Leur nombre est croissa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64480"/>
          </a:xfrm>
          <a:prstGeom prst="rect">
            <a:avLst/>
          </a:prstGeom>
          <a:ln w="0">
            <a:noFill/>
          </a:ln>
        </p:spPr>
      </p:pic>
      <p:sp>
        <p:nvSpPr>
          <p:cNvPr id="564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FBAD-4C3C-4F28-871B-D4D26A7BC8F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Groupe 8" descr=""/>
          <p:cNvPicPr/>
          <p:nvPr/>
        </p:nvPicPr>
        <p:blipFill>
          <a:blip r:embed="rId2"/>
          <a:stretch/>
        </p:blipFill>
        <p:spPr>
          <a:xfrm>
            <a:off x="738360" y="1036800"/>
            <a:ext cx="5394240" cy="2035080"/>
          </a:xfrm>
          <a:prstGeom prst="rect">
            <a:avLst/>
          </a:prstGeom>
          <a:ln w="0">
            <a:noFill/>
          </a:ln>
        </p:spPr>
      </p:pic>
      <p:sp>
        <p:nvSpPr>
          <p:cNvPr id="566" name="ZoneTexte 11"/>
          <p:cNvSpPr/>
          <p:nvPr/>
        </p:nvSpPr>
        <p:spPr>
          <a:xfrm>
            <a:off x="-500760" y="614376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77F-00D9-43FA-AD74-723D8275E49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2" descr="C:\Documents and Settings\gpayen\Mes documents\Mes images\AqF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6"/>
          <p:cNvSpPr/>
          <p:nvPr/>
        </p:nvSpPr>
        <p:spPr>
          <a:xfrm>
            <a:off x="714240" y="1571760"/>
            <a:ext cx="557244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Prévisions de pop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World Urbanization Prospects, the 2009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O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00040" y="0"/>
            <a:ext cx="1214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mill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Ellipse 9"/>
          <p:cNvSpPr/>
          <p:nvPr/>
        </p:nvSpPr>
        <p:spPr>
          <a:xfrm rot="19086000">
            <a:off x="4917960" y="1495080"/>
            <a:ext cx="4846680" cy="96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3" descr=""/>
          <p:cNvPicPr/>
          <p:nvPr/>
        </p:nvPicPr>
        <p:blipFill>
          <a:blip r:embed="rId1"/>
          <a:stretch/>
        </p:blipFill>
        <p:spPr>
          <a:xfrm>
            <a:off x="0" y="-58680"/>
            <a:ext cx="9229680" cy="69166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e 13"/>
          <p:cNvGrpSpPr/>
          <p:nvPr/>
        </p:nvGrpSpPr>
        <p:grpSpPr>
          <a:xfrm>
            <a:off x="468360" y="1556640"/>
            <a:ext cx="4032360" cy="4320000"/>
            <a:chOff x="468360" y="1556640"/>
            <a:chExt cx="4032360" cy="4320000"/>
          </a:xfrm>
        </p:grpSpPr>
        <p:sp>
          <p:nvSpPr>
            <p:cNvPr id="574" name="Rectangle à coins arrondis 2"/>
            <p:cNvSpPr/>
            <p:nvPr/>
          </p:nvSpPr>
          <p:spPr>
            <a:xfrm>
              <a:off x="468360" y="3141000"/>
              <a:ext cx="2880360" cy="1080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éveloppement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ifi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5" name="Connecteur droit avec flèche 5"/>
            <p:cNvCxnSpPr/>
            <p:nvPr/>
          </p:nvCxnSpPr>
          <p:spPr>
            <a:xfrm flipH="1" flipV="1">
              <a:off x="972360" y="1556640"/>
              <a:ext cx="504360" cy="1584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  <p:cxnSp>
          <p:nvCxnSpPr>
            <p:cNvPr id="576" name="Connecteur droit avec flèche 6"/>
            <p:cNvCxnSpPr/>
            <p:nvPr/>
          </p:nvCxnSpPr>
          <p:spPr>
            <a:xfrm>
              <a:off x="2196000" y="4220640"/>
              <a:ext cx="2305080" cy="1656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</p:grpSp>
      <p:grpSp>
        <p:nvGrpSpPr>
          <p:cNvPr id="577" name="Groupe 16"/>
          <p:cNvGrpSpPr/>
          <p:nvPr/>
        </p:nvGrpSpPr>
        <p:grpSpPr>
          <a:xfrm>
            <a:off x="4066920" y="1413000"/>
            <a:ext cx="4321440" cy="3095640"/>
            <a:chOff x="4066920" y="1413000"/>
            <a:chExt cx="4321440" cy="3095640"/>
          </a:xfrm>
        </p:grpSpPr>
        <p:grpSp>
          <p:nvGrpSpPr>
            <p:cNvPr id="578" name="Groupe 15"/>
            <p:cNvGrpSpPr/>
            <p:nvPr/>
          </p:nvGrpSpPr>
          <p:grpSpPr>
            <a:xfrm>
              <a:off x="5434920" y="1413000"/>
              <a:ext cx="2953440" cy="3095640"/>
              <a:chOff x="5434920" y="1413000"/>
              <a:chExt cx="2953440" cy="3095640"/>
            </a:xfrm>
          </p:grpSpPr>
          <p:sp>
            <p:nvSpPr>
              <p:cNvPr id="579" name="Rectangle à coins arrondis 3"/>
              <p:cNvSpPr/>
              <p:nvPr/>
            </p:nvSpPr>
            <p:spPr>
              <a:xfrm>
                <a:off x="5434920" y="1413000"/>
                <a:ext cx="2882160" cy="1079280"/>
              </a:xfrm>
              <a:prstGeom prst="roundRect">
                <a:avLst>
                  <a:gd name="adj" fmla="val 16667"/>
                </a:avLst>
              </a:prstGeom>
              <a:solidFill>
                <a:srgbClr val="5c5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éveloppement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non planifié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80" name="Connecteur droit avec flèche 9"/>
              <p:cNvCxnSpPr/>
              <p:nvPr/>
            </p:nvCxnSpPr>
            <p:spPr>
              <a:xfrm>
                <a:off x="6659280" y="2491920"/>
                <a:ext cx="1153440" cy="2017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  <p:cxnSp>
            <p:nvCxnSpPr>
              <p:cNvPr id="581" name="Connecteur droit avec flèche 11"/>
              <p:cNvCxnSpPr/>
              <p:nvPr/>
            </p:nvCxnSpPr>
            <p:spPr>
              <a:xfrm>
                <a:off x="6947640" y="2491920"/>
                <a:ext cx="1441080" cy="361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</p:grpSp>
        <p:cxnSp>
          <p:nvCxnSpPr>
            <p:cNvPr id="582" name="Connecteur droit avec flèche 12"/>
            <p:cNvCxnSpPr/>
            <p:nvPr/>
          </p:nvCxnSpPr>
          <p:spPr>
            <a:xfrm flipH="1">
              <a:off x="4066920" y="2492280"/>
              <a:ext cx="2305440" cy="1874160"/>
            </a:xfrm>
            <a:prstGeom prst="straightConnector1">
              <a:avLst/>
            </a:prstGeom>
            <a:ln w="38160">
              <a:solidFill>
                <a:srgbClr val="0a0aff"/>
              </a:solidFill>
              <a:miter/>
              <a:tailEnd len="med" type="arrow" w="med"/>
            </a:ln>
          </p:spPr>
        </p:cxnSp>
      </p:grpSp>
      <p:sp>
        <p:nvSpPr>
          <p:cNvPr id="583" name="Espace réservé du numéro de diapositive 3"/>
          <p:cNvSpPr/>
          <p:nvPr/>
        </p:nvSpPr>
        <p:spPr>
          <a:xfrm>
            <a:off x="179280" y="6237360"/>
            <a:ext cx="1438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G.Payen    </a:t>
            </a:r>
            <a:fld id="{E66C12E0-4F63-4CDC-830B-A47F8C79DAD4}" type="slidenum"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7E2-49B5-4B01-9C67-6F9AD346380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2"/>
          <p:cNvSpPr/>
          <p:nvPr/>
        </p:nvSpPr>
        <p:spPr>
          <a:xfrm>
            <a:off x="327672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0" y="928800"/>
            <a:ext cx="7905600" cy="5929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-1440" y="64612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ource: G.Pay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2. Développement de l’Accès </a:t>
            </a:r>
            <a:br>
              <a:rPr sz="4000"/>
            </a:b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 à l’eau potable et à l’assainissemen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89" name="Espace réservé du numéro de diapositive 5"/>
          <p:cNvSpPr/>
          <p:nvPr/>
        </p:nvSpPr>
        <p:spPr>
          <a:xfrm>
            <a:off x="8386920" y="649296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762-DFC5-418E-90F5-D646E08B8632}" type="slidenum">
              <a:rPr b="0" lang="fr-FR" sz="1400" spc="-1" strike="noStrike">
                <a:solidFill>
                  <a:srgbClr val="000066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3:37:23Z</dcterms:created>
  <dc:creator>Payen</dc:creator>
  <dc:description/>
  <cp:keywords>Urban challenges défis urbains urgence urbaine Aquafed UNSGAB ban ki-moon</cp:keywords>
  <dc:language>en-US</dc:language>
  <cp:lastModifiedBy>gerard payen</cp:lastModifiedBy>
  <dcterms:modified xsi:type="dcterms:W3CDTF">2012-01-18T19:19:17Z</dcterms:modified>
  <cp:revision>549</cp:revision>
  <dc:subject/>
  <dc:title>Droit à l'eau en ville</dc:title>
</cp:coreProperties>
</file>